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1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gif" ContentType="image/gif"/>
  <Override PartName="/ppt/media/image26.jpeg" ContentType="image/jpeg"/>
  <Override PartName="/ppt/media/image6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2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FE4-97B7-4816-A230-196CC114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B82-B37C-4EFE-8DA9-441C16A4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4A4A2-0A3C-41D7-B51B-F0279418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9367-60C3-417E-8E3D-E3798D8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69703-6F81-4697-BCD2-C5FE7E1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106A7-8322-45D4-8190-7ABE9B5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6984-0DE0-479B-9B5A-04049BB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635E-C747-42B2-A3A9-629EFA8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5CF2F-3618-4943-A0A4-5563F3C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0CAC-3005-44BC-BAA9-2B770224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68351-A206-42F7-9E49-232181E6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D09C-D205-4D3B-A3B7-0985102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886-51AA-4DB5-ACB2-B12CB10D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C19B0-7A74-4A51-A464-2F73EC1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8677C-1F16-43AC-879A-7B93EA0A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62164-6EE7-4449-B1F5-B33C721A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0CC2D-2455-4EA6-88AB-0E113FC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2D6F8-0D9B-40FD-B082-92F65E7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0CF0D-5B48-4387-B1E4-95B98C6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CD1A2-EE73-473E-A8AF-8F0BD94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6D41D-2FC6-4C04-A247-5DFFF56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DB31-6F96-48E4-A75D-98F49632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6102F-6AA9-4523-971C-ABA73645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44D-2016-47EF-BDF4-E8161FF8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75FDF-7DDA-45C0-BBED-5D168E32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1D5C1-5AC9-4723-9212-2487E725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FD09-2DF2-4A42-9DE3-25CFF35E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3A2E-627C-40FD-8362-A3247F1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7DF3A-1D4A-44B5-BC1B-A9C6E68D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6FDDA-789D-4556-AC73-665A6F0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3137C-4024-48C3-B5B1-6397544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37E68-45E8-405A-8563-147A82E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88B2-8A3A-42CB-961C-3652506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7A28D-982B-4FD2-9C53-2C196AA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207-D6AB-40AE-9CE5-84C27EC8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C57B4-BA5B-4752-92E4-62BCD834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A2E3B-189A-4100-8C18-C2F51B1A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63630-89B8-4B43-82FC-F65A6C2D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B11DA-C8CE-4EFE-8167-0EE22E9E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B0195-816D-4A3F-A782-ADE8087F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800C0-67B3-45A3-9A8A-3CA9D0B4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34B6-9BB5-463B-A9E1-ABE355A3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723E2-75EC-49BA-8D28-3BFD7135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F63FA-FF29-4F34-9A98-8E38AF2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B9FB5-E3BC-4EF7-AE90-AC7E2E4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3BB7-BDD0-4560-97B4-C93D2C7E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4EAF4-2E33-44FD-812A-CE8542A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CA73A-EAE8-4925-86CF-3D1EFC8A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BCBB8-0F2D-4887-AD1B-9BFF296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AA973-D8A6-4CC9-8305-BF61CCE1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E4814-A98F-4B4D-A567-28339654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16ED8-0940-4F4F-909E-6924641A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EE92A-B37C-4F8C-9FDA-D6E0F44C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C80BA-DEEC-495D-A41E-0E14B1A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532AD-64AC-4B73-A2AE-EBDC8AE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F0997-73C0-4CAA-9C8A-C662343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AA01-660B-454E-9D8A-549F929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0E1EB-9AB9-45B2-838D-C0EEBCDB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4515A-EAE6-4887-8636-904FA1D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5C36B-A84C-4FB8-970F-34651E2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D157A-0EED-4946-82DD-9F62D80C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904DD-740B-40C2-9BE0-2DCFF66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F4CC3-2577-4C6B-8D76-91C4D511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879C0-3584-4886-BADF-CCEFC744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3564-474B-4337-AA5D-326B976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1162-756B-4EDE-B2DC-055F0AE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7F9E-52DF-4E91-868A-9CF68A78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F6D3-607B-4B8F-9ADE-293DF4D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954-6AAE-475D-96DE-4A14EFD7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1CAF-5CFC-416C-9662-7475022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98F4-8F74-4353-BE2D-3305F96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F35B-DDF3-4211-A1C3-30902DE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5EF8-336A-44EB-9B89-AE362517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C940-C945-41F1-BF13-9E062869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CF8B-1894-409A-925D-E820CF6D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8533-DB7C-415F-8B60-FAE21694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0FCD-2F46-4BAB-9D1F-67A496E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550B-AF72-4654-AA72-F0A18A6A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2D76-5506-4F95-B425-F60D6F58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CBB-A4CF-49C9-A337-C7A8D2E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A43F-6395-4D77-A67A-887473BF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7A64-3188-4E30-9426-AA5E235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16451-CB6F-4567-BF8F-84CCF9BD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6D27-F040-4490-8BE1-C686ABB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879B-9E31-41E9-8984-B30F911C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90AF-01EF-44F7-B4FD-608CBF4B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CB8E-103B-4EA8-B435-8D3FF558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235B-2118-4B85-A8F5-A0E7230E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2C08-1EB5-4F3B-80F0-D79EDBE1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15FE-4EDE-4784-BD8B-EFD81BA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513-645C-4000-9997-720C013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69D8-BFCA-400F-84E8-C96D4553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AB26-C555-49C4-BC1E-D10D3BFF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9EC6-8D95-474F-A186-B6B43119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1A1B-8B27-4A3A-A209-F56F5D1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D31E-8926-4E94-AF2F-7A5738C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8861-01EC-4641-B6B3-98AF9058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6B11-F5ED-46AB-9476-5D59A7B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0348-4578-4161-B68A-204195CE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45B8-2582-498A-8843-AB9FC1AB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A570C-4E5D-4BF4-840D-60B05565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63C-E4A4-4DE1-ABB0-A2835E7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8BD2-18D6-42D4-AF67-D74DD7D0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DE4B-99A9-4828-9B63-44A661CC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1B57A-3316-48DF-BAB2-449C5A8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51083-597A-4A73-AF8E-9F9258F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654A3-98A5-46AE-8EF5-6DC8DBCD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BBDB4-7677-4C88-BDFC-1D5A1988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3F86-7E5F-413A-A6FA-50CE21F2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481BF-2CDA-40FD-AE83-33E45B5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A8C5-818D-4049-95B7-E6E9FD6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24F3-6108-4DBE-9014-2A772E4D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DC3-19F1-457F-A47B-1D368D28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0C02-ED15-44DE-AB2B-DE4B721A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EE84-D796-424C-9AD1-2F65FEDA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A64F-3526-4184-8508-AEF4851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D593-9715-4CAB-9D81-837EC621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FB7D-0995-499F-ACAA-3033FE0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F925-6620-4419-977F-0522BB7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56E8-AF75-4AED-A389-8B995C12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1AD1-9DE0-4157-B466-CFA3EE9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7215-5978-4935-B215-97A92B6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2DD62-E5BB-4C71-98EA-F6F15E0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8B9-B0A0-41EC-901E-B338C2E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2352-61DF-451B-8201-1A1C6B0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F5B72-FC87-4641-93F2-B527ED18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E98C-6228-4423-AE0A-1989DD25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088E-B048-4C95-8864-D2C4FAEA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BC243-AFAA-4A16-870A-8C46686D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14457-A2AD-4B70-A8E6-7DECF052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AEAE-2786-44B3-898C-651F7B59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51B6-6AED-4713-92FC-327E065C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90AF-382A-4B79-B82C-F39856B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1216-EABB-4BD7-B308-0C5CAAC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441-73A1-4B22-AE06-CB5F14C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AFF4-344E-4DE2-B132-23A73AB2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4A4F-C1FE-413C-B7A1-BF6AD61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F67D-2B59-4AC4-9D18-AEEC81A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3837-300F-4146-A601-1701A2AE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BC14E-F453-49BD-BFCC-6547EC33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F3B4-281E-4CC6-A94B-36E2B6B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F597C-DB01-45F5-9B3B-818998C0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6080-B653-418A-B160-4F452250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90C05-C85C-4E04-90B9-99B7D16B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68AD9-4AF7-40E0-A6C7-6185708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47C-FE13-44E0-83B2-A9436108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C8807-4A5C-41B1-90BF-99ADE433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8B2BC-A6BA-4744-8DF5-772EE50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67184-8114-4C02-932B-73B0078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D9CE-B005-4818-8FC0-C41A611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03A7-9451-4A60-AB82-1C5966D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6AC1-9A10-4116-9501-C0F94161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F71E2-DA1F-4E40-A88B-8DA9BE0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AF67-F5EB-4509-883D-27A47490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C175-71B9-4181-8BA7-5A30A70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3CD26-6A4C-468F-A69D-A8A45E0D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CE41-1B9D-40FA-A649-AFBF47D0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89F-8E5D-4595-A8B7-C8394E01CBD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9E2E-2631-42CA-B2D7-143633937C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8B5A-F490-466A-8B32-FD054D4C986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A2E-BDEC-46BB-BE7D-ED8330304E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17C7-0E62-4797-BAB3-C3061F6B240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7E9D-9F49-4E26-982C-5BDA3CC49A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79F-7ADD-448D-9143-8BED99F1B8D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6B3C-ED28-44F8-8905-0877CC0055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6493-D7B3-4540-B01B-A213362FE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3A9E-22BD-434B-8E12-3B2DB663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A6B-C1C9-4D38-A5AE-4A7ADF8A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44F-9967-495C-A13F-4A3FC3E6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72A1-E77F-41CF-9AEA-C1A589AAE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DB0D-CA5A-4DE3-8E05-113F59A87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5825-D4A9-46D2-A277-949700B4EB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294-01F2-4A22-9305-9A84B751C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A178-4208-4883-A7C0-9C8C8CF229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466-ACAB-48F9-8454-D8643145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ED5C-6C44-4982-9F4F-690AB61F33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BC7-534D-4085-92BF-922050D22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istory.com/interactives/witness-to-911" TargetMode="External"/><Relationship Id="rId4" Type="http://schemas.openxmlformats.org/officeDocument/2006/relationships/hyperlink" Target="http://www.cnn.com/studentnews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3.gi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8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8"/>
          <p:cNvSpPr/>
          <p:nvPr/>
        </p:nvSpPr>
        <p:spPr>
          <a:xfrm>
            <a:off x="0" y="0"/>
            <a:ext cx="4419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 9-12 &amp; 13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o Test next bloc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2" descr="american%20eagle%20with%20trade%20center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3"/>
          <p:cNvSpPr/>
          <p:nvPr/>
        </p:nvSpPr>
        <p:spPr>
          <a:xfrm>
            <a:off x="0" y="762120"/>
            <a:ext cx="4419720" cy="203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 9-1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9/11 a day of remembr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looking"/>
          <p:cNvPicPr/>
          <p:nvPr/>
        </p:nvPicPr>
        <p:blipFill>
          <a:blip r:embed="rId2"/>
          <a:srcRect l="0" t="9440" r="0" b="0"/>
          <a:stretch/>
        </p:blipFill>
        <p:spPr>
          <a:xfrm>
            <a:off x="685800" y="2819520"/>
            <a:ext cx="3124080" cy="4038480"/>
          </a:xfrm>
          <a:prstGeom prst="rect">
            <a:avLst/>
          </a:prstGeom>
          <a:ln w="0">
            <a:noFill/>
          </a:ln>
        </p:spPr>
      </p:pic>
      <p:sp>
        <p:nvSpPr>
          <p:cNvPr id="537" name="TextBox 6"/>
          <p:cNvSpPr/>
          <p:nvPr/>
        </p:nvSpPr>
        <p:spPr>
          <a:xfrm>
            <a:off x="0" y="1600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 9/11/01 the US was attacked by terrorist and killed thousands of innocent people.  A lot of things changed that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0" y="55627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istory Chan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0" y="49528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N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4"/>
          <p:cNvSpPr/>
          <p:nvPr/>
        </p:nvSpPr>
        <p:spPr>
          <a:xfrm>
            <a:off x="0" y="662796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t to secure these 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s are instituted among m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riving their just Powers from the Consent of the Gover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45DE-E644-4C0C-9F6A-23196D93A1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" descr="World map.color.bm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4191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64771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6095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7"/>
          <p:cNvSpPr/>
          <p:nvPr/>
        </p:nvSpPr>
        <p:spPr>
          <a:xfrm>
            <a:off x="5791320" y="2819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2"/>
          <p:cNvSpPr/>
          <p:nvPr/>
        </p:nvSpPr>
        <p:spPr>
          <a:xfrm>
            <a:off x="251460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228600" y="121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17524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5"/>
          <p:cNvSpPr/>
          <p:nvPr/>
        </p:nvSpPr>
        <p:spPr>
          <a:xfrm>
            <a:off x="4572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533412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259092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sosceles Triangle 18"/>
          <p:cNvSpPr/>
          <p:nvPr/>
        </p:nvSpPr>
        <p:spPr>
          <a:xfrm>
            <a:off x="5105520" y="3886200"/>
            <a:ext cx="222120" cy="15228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50292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0"/>
          <p:cNvSpPr/>
          <p:nvPr/>
        </p:nvSpPr>
        <p:spPr>
          <a:xfrm>
            <a:off x="5993280" y="1600200"/>
            <a:ext cx="8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3"/>
          <p:cNvSpPr/>
          <p:nvPr/>
        </p:nvSpPr>
        <p:spPr>
          <a:xfrm>
            <a:off x="6375240" y="2881440"/>
            <a:ext cx="828720" cy="233280"/>
          </a:xfrm>
          <a:custGeom>
            <a:avLst/>
            <a:gdLst/>
            <a:ahLst/>
            <a:rect l="l" t="t" r="r" b="b"/>
            <a:pathLst>
              <a:path w="827903" h="233261">
                <a:moveTo>
                  <a:pt x="0" y="60266"/>
                </a:moveTo>
                <a:cubicBezTo>
                  <a:pt x="12357" y="56147"/>
                  <a:pt x="25421" y="53734"/>
                  <a:pt x="37071" y="47909"/>
                </a:cubicBezTo>
                <a:cubicBezTo>
                  <a:pt x="132890" y="0"/>
                  <a:pt x="18031" y="41900"/>
                  <a:pt x="111211" y="10839"/>
                </a:cubicBezTo>
                <a:cubicBezTo>
                  <a:pt x="135925" y="19077"/>
                  <a:pt x="170902" y="13878"/>
                  <a:pt x="185352" y="35553"/>
                </a:cubicBezTo>
                <a:cubicBezTo>
                  <a:pt x="193590" y="47910"/>
                  <a:pt x="198468" y="63346"/>
                  <a:pt x="210065" y="72623"/>
                </a:cubicBezTo>
                <a:cubicBezTo>
                  <a:pt x="220236" y="80760"/>
                  <a:pt x="234612" y="81402"/>
                  <a:pt x="247136" y="84980"/>
                </a:cubicBezTo>
                <a:cubicBezTo>
                  <a:pt x="355739" y="116008"/>
                  <a:pt x="244758" y="80067"/>
                  <a:pt x="333633" y="109693"/>
                </a:cubicBezTo>
                <a:cubicBezTo>
                  <a:pt x="341871" y="134407"/>
                  <a:pt x="336671" y="169384"/>
                  <a:pt x="358346" y="183834"/>
                </a:cubicBezTo>
                <a:lnTo>
                  <a:pt x="432487" y="233261"/>
                </a:lnTo>
                <a:cubicBezTo>
                  <a:pt x="453082" y="229142"/>
                  <a:pt x="474009" y="226430"/>
                  <a:pt x="494271" y="220904"/>
                </a:cubicBezTo>
                <a:cubicBezTo>
                  <a:pt x="519403" y="214050"/>
                  <a:pt x="568411" y="196190"/>
                  <a:pt x="568411" y="196190"/>
                </a:cubicBezTo>
                <a:cubicBezTo>
                  <a:pt x="580768" y="183833"/>
                  <a:pt x="590942" y="168813"/>
                  <a:pt x="605482" y="159120"/>
                </a:cubicBezTo>
                <a:cubicBezTo>
                  <a:pt x="616320" y="151895"/>
                  <a:pt x="632381" y="154900"/>
                  <a:pt x="642552" y="146763"/>
                </a:cubicBezTo>
                <a:cubicBezTo>
                  <a:pt x="654148" y="137486"/>
                  <a:pt x="652703" y="112605"/>
                  <a:pt x="667265" y="109693"/>
                </a:cubicBezTo>
                <a:cubicBezTo>
                  <a:pt x="719771" y="99192"/>
                  <a:pt x="774357" y="109693"/>
                  <a:pt x="827903" y="109693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27"/>
          <p:cNvSpPr/>
          <p:nvPr/>
        </p:nvSpPr>
        <p:spPr>
          <a:xfrm>
            <a:off x="4888080" y="2484360"/>
            <a:ext cx="360360" cy="195480"/>
          </a:xfrm>
          <a:custGeom>
            <a:avLst/>
            <a:gdLst/>
            <a:ahLst/>
            <a:rect l="l" t="t" r="r" b="b"/>
            <a:pathLst>
              <a:path w="360860" h="196729">
                <a:moveTo>
                  <a:pt x="339457" y="160638"/>
                </a:moveTo>
                <a:cubicBezTo>
                  <a:pt x="355933" y="144162"/>
                  <a:pt x="310608" y="112113"/>
                  <a:pt x="277673" y="86497"/>
                </a:cubicBezTo>
                <a:cubicBezTo>
                  <a:pt x="254228" y="68262"/>
                  <a:pt x="203533" y="37070"/>
                  <a:pt x="203533" y="37070"/>
                </a:cubicBezTo>
                <a:cubicBezTo>
                  <a:pt x="191176" y="41189"/>
                  <a:pt x="178557" y="54264"/>
                  <a:pt x="166463" y="49427"/>
                </a:cubicBezTo>
                <a:cubicBezTo>
                  <a:pt x="152674" y="43912"/>
                  <a:pt x="153346" y="21634"/>
                  <a:pt x="141749" y="12357"/>
                </a:cubicBezTo>
                <a:cubicBezTo>
                  <a:pt x="131578" y="4220"/>
                  <a:pt x="117036" y="4119"/>
                  <a:pt x="104679" y="0"/>
                </a:cubicBezTo>
                <a:cubicBezTo>
                  <a:pt x="92322" y="8238"/>
                  <a:pt x="76885" y="13117"/>
                  <a:pt x="67608" y="24714"/>
                </a:cubicBezTo>
                <a:cubicBezTo>
                  <a:pt x="59471" y="34885"/>
                  <a:pt x="62477" y="50947"/>
                  <a:pt x="55252" y="61784"/>
                </a:cubicBezTo>
                <a:cubicBezTo>
                  <a:pt x="45558" y="76324"/>
                  <a:pt x="30538" y="86497"/>
                  <a:pt x="18181" y="98854"/>
                </a:cubicBezTo>
                <a:cubicBezTo>
                  <a:pt x="14062" y="111211"/>
                  <a:pt x="0" y="124274"/>
                  <a:pt x="5825" y="135924"/>
                </a:cubicBezTo>
                <a:cubicBezTo>
                  <a:pt x="11650" y="147574"/>
                  <a:pt x="30080" y="145951"/>
                  <a:pt x="42895" y="148281"/>
                </a:cubicBezTo>
                <a:cubicBezTo>
                  <a:pt x="75567" y="154222"/>
                  <a:pt x="108798" y="156519"/>
                  <a:pt x="141749" y="160638"/>
                </a:cubicBezTo>
                <a:cubicBezTo>
                  <a:pt x="154106" y="168876"/>
                  <a:pt x="163997" y="184425"/>
                  <a:pt x="178819" y="185351"/>
                </a:cubicBezTo>
                <a:cubicBezTo>
                  <a:pt x="360860" y="196729"/>
                  <a:pt x="322981" y="177114"/>
                  <a:pt x="339457" y="160638"/>
                </a:cubicBez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4834800" y="2236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4389480" y="2666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6603840" y="266688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1"/>
          <p:cNvSpPr/>
          <p:nvPr/>
        </p:nvSpPr>
        <p:spPr>
          <a:xfrm>
            <a:off x="6140520" y="3002040"/>
            <a:ext cx="203040" cy="309600"/>
          </a:xfrm>
          <a:custGeom>
            <a:avLst/>
            <a:gdLst/>
            <a:ahLst/>
            <a:rect l="l" t="t" r="r" b="b"/>
            <a:pathLst>
              <a:path w="202746" h="308919">
                <a:moveTo>
                  <a:pt x="38200" y="0"/>
                </a:moveTo>
                <a:lnTo>
                  <a:pt x="13487" y="74140"/>
                </a:lnTo>
                <a:lnTo>
                  <a:pt x="1130" y="111211"/>
                </a:lnTo>
                <a:cubicBezTo>
                  <a:pt x="5249" y="144162"/>
                  <a:pt x="0" y="179719"/>
                  <a:pt x="13487" y="210065"/>
                </a:cubicBezTo>
                <a:cubicBezTo>
                  <a:pt x="18777" y="221967"/>
                  <a:pt x="37663" y="220580"/>
                  <a:pt x="50557" y="222422"/>
                </a:cubicBezTo>
                <a:cubicBezTo>
                  <a:pt x="95595" y="228856"/>
                  <a:pt x="141173" y="230659"/>
                  <a:pt x="186481" y="234778"/>
                </a:cubicBezTo>
                <a:cubicBezTo>
                  <a:pt x="202746" y="283572"/>
                  <a:pt x="198838" y="258824"/>
                  <a:pt x="198838" y="308919"/>
                </a:cubicBezTo>
              </a:path>
            </a:pathLst>
          </a:custGeom>
          <a:noFill/>
          <a:ln w="1908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5918040" y="320040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1036800" y="16002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2027520" y="2666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sosceles Triangle 36"/>
          <p:cNvSpPr/>
          <p:nvPr/>
        </p:nvSpPr>
        <p:spPr>
          <a:xfrm>
            <a:off x="2438280" y="4495680"/>
            <a:ext cx="222480" cy="15264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7"/>
          <p:cNvSpPr/>
          <p:nvPr/>
        </p:nvSpPr>
        <p:spPr>
          <a:xfrm>
            <a:off x="1219320" y="266688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38"/>
          <p:cNvSpPr/>
          <p:nvPr/>
        </p:nvSpPr>
        <p:spPr>
          <a:xfrm>
            <a:off x="1606680" y="2446200"/>
            <a:ext cx="307800" cy="581040"/>
          </a:xfrm>
          <a:custGeom>
            <a:avLst/>
            <a:gdLst/>
            <a:ahLst/>
            <a:rect l="l" t="t" r="r" b="b"/>
            <a:pathLst>
              <a:path w="308919" h="580767">
                <a:moveTo>
                  <a:pt x="0" y="0"/>
                </a:moveTo>
                <a:cubicBezTo>
                  <a:pt x="25301" y="8434"/>
                  <a:pt x="55716" y="14959"/>
                  <a:pt x="74141" y="37070"/>
                </a:cubicBezTo>
                <a:cubicBezTo>
                  <a:pt x="85933" y="51221"/>
                  <a:pt x="92013" y="69394"/>
                  <a:pt x="98854" y="86497"/>
                </a:cubicBezTo>
                <a:cubicBezTo>
                  <a:pt x="128217" y="159905"/>
                  <a:pt x="117720" y="146346"/>
                  <a:pt x="135925" y="210065"/>
                </a:cubicBezTo>
                <a:cubicBezTo>
                  <a:pt x="139503" y="222589"/>
                  <a:pt x="141956" y="235749"/>
                  <a:pt x="148281" y="247135"/>
                </a:cubicBezTo>
                <a:cubicBezTo>
                  <a:pt x="219098" y="374607"/>
                  <a:pt x="182103" y="274464"/>
                  <a:pt x="210065" y="358346"/>
                </a:cubicBezTo>
                <a:cubicBezTo>
                  <a:pt x="197708" y="366584"/>
                  <a:pt x="182272" y="371462"/>
                  <a:pt x="172995" y="383059"/>
                </a:cubicBezTo>
                <a:cubicBezTo>
                  <a:pt x="164858" y="393230"/>
                  <a:pt x="148735" y="414840"/>
                  <a:pt x="160638" y="420130"/>
                </a:cubicBezTo>
                <a:cubicBezTo>
                  <a:pt x="198465" y="436942"/>
                  <a:pt x="243017" y="428367"/>
                  <a:pt x="284206" y="432486"/>
                </a:cubicBezTo>
                <a:cubicBezTo>
                  <a:pt x="297479" y="565218"/>
                  <a:pt x="278051" y="519029"/>
                  <a:pt x="308919" y="580767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9"/>
          <p:cNvSpPr/>
          <p:nvPr/>
        </p:nvSpPr>
        <p:spPr>
          <a:xfrm>
            <a:off x="205488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0"/>
          <p:cNvSpPr/>
          <p:nvPr/>
        </p:nvSpPr>
        <p:spPr>
          <a:xfrm>
            <a:off x="0" y="5580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1"/>
          <p:cNvSpPr/>
          <p:nvPr/>
        </p:nvSpPr>
        <p:spPr>
          <a:xfrm>
            <a:off x="2305080" y="56246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2"/>
          <p:cNvSpPr/>
          <p:nvPr/>
        </p:nvSpPr>
        <p:spPr>
          <a:xfrm>
            <a:off x="4552920" y="5607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3"/>
          <p:cNvSpPr/>
          <p:nvPr/>
        </p:nvSpPr>
        <p:spPr>
          <a:xfrm>
            <a:off x="6946920" y="55958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35"/>
          <p:cNvSpPr/>
          <p:nvPr/>
        </p:nvSpPr>
        <p:spPr>
          <a:xfrm>
            <a:off x="728640" y="1400040"/>
            <a:ext cx="855720" cy="1368720"/>
          </a:xfrm>
          <a:custGeom>
            <a:avLst/>
            <a:gdLst/>
            <a:ahLst/>
            <a:rect l="l" t="t" r="r" b="b"/>
            <a:pathLst>
              <a:path w="854757" h="1367065">
                <a:moveTo>
                  <a:pt x="0" y="94319"/>
                </a:moveTo>
                <a:cubicBezTo>
                  <a:pt x="12357" y="81962"/>
                  <a:pt x="22530" y="66942"/>
                  <a:pt x="37070" y="57248"/>
                </a:cubicBezTo>
                <a:cubicBezTo>
                  <a:pt x="122941" y="0"/>
                  <a:pt x="81993" y="146982"/>
                  <a:pt x="86497" y="205529"/>
                </a:cubicBezTo>
                <a:cubicBezTo>
                  <a:pt x="110000" y="200829"/>
                  <a:pt x="160018" y="193483"/>
                  <a:pt x="185351" y="180816"/>
                </a:cubicBezTo>
                <a:cubicBezTo>
                  <a:pt x="198634" y="174174"/>
                  <a:pt x="210064" y="164340"/>
                  <a:pt x="222421" y="156102"/>
                </a:cubicBezTo>
                <a:cubicBezTo>
                  <a:pt x="214183" y="180816"/>
                  <a:pt x="204026" y="204970"/>
                  <a:pt x="197708" y="230243"/>
                </a:cubicBezTo>
                <a:cubicBezTo>
                  <a:pt x="193589" y="246719"/>
                  <a:pt x="192041" y="264060"/>
                  <a:pt x="185351" y="279670"/>
                </a:cubicBezTo>
                <a:cubicBezTo>
                  <a:pt x="179501" y="293320"/>
                  <a:pt x="148280" y="308502"/>
                  <a:pt x="160637" y="316740"/>
                </a:cubicBezTo>
                <a:cubicBezTo>
                  <a:pt x="178112" y="328390"/>
                  <a:pt x="201826" y="308502"/>
                  <a:pt x="222421" y="304383"/>
                </a:cubicBezTo>
                <a:cubicBezTo>
                  <a:pt x="234778" y="292026"/>
                  <a:pt x="242017" y="267313"/>
                  <a:pt x="259492" y="267313"/>
                </a:cubicBezTo>
                <a:cubicBezTo>
                  <a:pt x="272517" y="267313"/>
                  <a:pt x="268421" y="291817"/>
                  <a:pt x="271848" y="304383"/>
                </a:cubicBezTo>
                <a:cubicBezTo>
                  <a:pt x="280785" y="337152"/>
                  <a:pt x="288324" y="370286"/>
                  <a:pt x="296562" y="403237"/>
                </a:cubicBezTo>
                <a:lnTo>
                  <a:pt x="308919" y="452665"/>
                </a:lnTo>
                <a:cubicBezTo>
                  <a:pt x="321276" y="448546"/>
                  <a:pt x="340599" y="428450"/>
                  <a:pt x="345989" y="440308"/>
                </a:cubicBezTo>
                <a:cubicBezTo>
                  <a:pt x="366724" y="485925"/>
                  <a:pt x="370702" y="588589"/>
                  <a:pt x="370702" y="588589"/>
                </a:cubicBezTo>
                <a:cubicBezTo>
                  <a:pt x="391297" y="584470"/>
                  <a:pt x="412821" y="583606"/>
                  <a:pt x="432486" y="576232"/>
                </a:cubicBezTo>
                <a:cubicBezTo>
                  <a:pt x="446391" y="571018"/>
                  <a:pt x="454994" y="548606"/>
                  <a:pt x="469556" y="551519"/>
                </a:cubicBezTo>
                <a:cubicBezTo>
                  <a:pt x="484119" y="554432"/>
                  <a:pt x="486032" y="576232"/>
                  <a:pt x="494270" y="588589"/>
                </a:cubicBezTo>
                <a:cubicBezTo>
                  <a:pt x="498389" y="646254"/>
                  <a:pt x="479219" y="710682"/>
                  <a:pt x="506627" y="761583"/>
                </a:cubicBezTo>
                <a:cubicBezTo>
                  <a:pt x="518505" y="783643"/>
                  <a:pt x="566205" y="728839"/>
                  <a:pt x="580767" y="749227"/>
                </a:cubicBezTo>
                <a:cubicBezTo>
                  <a:pt x="588282" y="759748"/>
                  <a:pt x="570483" y="856293"/>
                  <a:pt x="556054" y="885151"/>
                </a:cubicBezTo>
                <a:cubicBezTo>
                  <a:pt x="549412" y="898434"/>
                  <a:pt x="539578" y="909864"/>
                  <a:pt x="531340" y="922221"/>
                </a:cubicBezTo>
                <a:cubicBezTo>
                  <a:pt x="535459" y="934578"/>
                  <a:pt x="531018" y="956309"/>
                  <a:pt x="543697" y="959292"/>
                </a:cubicBezTo>
                <a:cubicBezTo>
                  <a:pt x="672342" y="989561"/>
                  <a:pt x="779542" y="903254"/>
                  <a:pt x="729048" y="1021075"/>
                </a:cubicBezTo>
                <a:cubicBezTo>
                  <a:pt x="723198" y="1034725"/>
                  <a:pt x="712573" y="1045789"/>
                  <a:pt x="704335" y="1058146"/>
                </a:cubicBezTo>
                <a:cubicBezTo>
                  <a:pt x="700216" y="1074622"/>
                  <a:pt x="696858" y="1091306"/>
                  <a:pt x="691978" y="1107573"/>
                </a:cubicBezTo>
                <a:cubicBezTo>
                  <a:pt x="684493" y="1132524"/>
                  <a:pt x="641721" y="1186822"/>
                  <a:pt x="667265" y="1181713"/>
                </a:cubicBezTo>
                <a:cubicBezTo>
                  <a:pt x="687859" y="1177594"/>
                  <a:pt x="708673" y="1174450"/>
                  <a:pt x="729048" y="1169356"/>
                </a:cubicBezTo>
                <a:cubicBezTo>
                  <a:pt x="754889" y="1162896"/>
                  <a:pt x="808983" y="1139854"/>
                  <a:pt x="827902" y="1132286"/>
                </a:cubicBezTo>
                <a:cubicBezTo>
                  <a:pt x="836140" y="1144643"/>
                  <a:pt x="850174" y="1154707"/>
                  <a:pt x="852616" y="1169356"/>
                </a:cubicBezTo>
                <a:cubicBezTo>
                  <a:pt x="854757" y="1182204"/>
                  <a:pt x="843837" y="1193903"/>
                  <a:pt x="840259" y="1206427"/>
                </a:cubicBezTo>
                <a:cubicBezTo>
                  <a:pt x="835593" y="1222756"/>
                  <a:pt x="832782" y="1239587"/>
                  <a:pt x="827902" y="1255854"/>
                </a:cubicBezTo>
                <a:cubicBezTo>
                  <a:pt x="820417" y="1280805"/>
                  <a:pt x="811427" y="1305281"/>
                  <a:pt x="803189" y="1329994"/>
                </a:cubicBezTo>
                <a:lnTo>
                  <a:pt x="790832" y="1367065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4"/>
          <p:cNvSpPr/>
          <p:nvPr/>
        </p:nvSpPr>
        <p:spPr>
          <a:xfrm>
            <a:off x="2004840" y="2633760"/>
            <a:ext cx="366840" cy="307800"/>
          </a:xfrm>
          <a:custGeom>
            <a:avLst/>
            <a:gdLst/>
            <a:ahLst/>
            <a:rect l="l" t="t" r="r" b="b"/>
            <a:pathLst>
              <a:path w="367145" h="307985">
                <a:moveTo>
                  <a:pt x="8799" y="307985"/>
                </a:moveTo>
                <a:cubicBezTo>
                  <a:pt x="12918" y="254439"/>
                  <a:pt x="0" y="196709"/>
                  <a:pt x="21156" y="147347"/>
                </a:cubicBezTo>
                <a:cubicBezTo>
                  <a:pt x="31418" y="123403"/>
                  <a:pt x="37632" y="196774"/>
                  <a:pt x="45870" y="221488"/>
                </a:cubicBezTo>
                <a:lnTo>
                  <a:pt x="58226" y="258558"/>
                </a:lnTo>
                <a:cubicBezTo>
                  <a:pt x="66464" y="246201"/>
                  <a:pt x="76908" y="235059"/>
                  <a:pt x="82940" y="221488"/>
                </a:cubicBezTo>
                <a:cubicBezTo>
                  <a:pt x="93520" y="197683"/>
                  <a:pt x="107653" y="147347"/>
                  <a:pt x="107653" y="147347"/>
                </a:cubicBezTo>
                <a:cubicBezTo>
                  <a:pt x="115891" y="159704"/>
                  <a:pt x="117959" y="188020"/>
                  <a:pt x="132367" y="184418"/>
                </a:cubicBezTo>
                <a:cubicBezTo>
                  <a:pt x="149597" y="180111"/>
                  <a:pt x="166513" y="97257"/>
                  <a:pt x="169437" y="85563"/>
                </a:cubicBezTo>
                <a:cubicBezTo>
                  <a:pt x="189442" y="92232"/>
                  <a:pt x="253379" y="115247"/>
                  <a:pt x="268291" y="110277"/>
                </a:cubicBezTo>
                <a:cubicBezTo>
                  <a:pt x="280648" y="106158"/>
                  <a:pt x="276529" y="85564"/>
                  <a:pt x="280648" y="73207"/>
                </a:cubicBezTo>
                <a:cubicBezTo>
                  <a:pt x="276529" y="60850"/>
                  <a:pt x="263453" y="48230"/>
                  <a:pt x="268291" y="36136"/>
                </a:cubicBezTo>
                <a:cubicBezTo>
                  <a:pt x="282746" y="0"/>
                  <a:pt x="345636" y="11423"/>
                  <a:pt x="367145" y="11423"/>
                </a:cubicBez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w has our world changed because of the events that occurred on 9/1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:\Documents and Settings\SMcDonald\Local Settings\Temporary Internet Files\Content.IE5\T9XPQEK1\MCj04404240000[1].wmf"/>
          <p:cNvPicPr/>
          <p:nvPr/>
        </p:nvPicPr>
        <p:blipFill>
          <a:blip r:embed="rId2"/>
          <a:stretch/>
        </p:blipFill>
        <p:spPr>
          <a:xfrm>
            <a:off x="0" y="2286000"/>
            <a:ext cx="1827360" cy="15066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8"/>
          <p:cNvSpPr/>
          <p:nvPr/>
        </p:nvSpPr>
        <p:spPr>
          <a:xfrm>
            <a:off x="685800" y="4038480"/>
            <a:ext cx="502920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rea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on of Independ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 and then keep it in  your Daily Work s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5638680" y="12952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alligraphy"/>
              </a:rPr>
              <a:t>Celebrate Constitution Wee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usa4th.gif"/>
          <p:cNvPicPr/>
          <p:nvPr/>
        </p:nvPicPr>
        <p:blipFill>
          <a:blip r:embed="rId3"/>
          <a:stretch/>
        </p:blipFill>
        <p:spPr>
          <a:xfrm>
            <a:off x="5867280" y="4572000"/>
            <a:ext cx="3124440" cy="1828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3" descr="arrow1rightred.gif"/>
          <p:cNvPicPr/>
          <p:nvPr/>
        </p:nvPicPr>
        <p:blipFill>
          <a:blip r:embed="rId4"/>
          <a:stretch/>
        </p:blipFill>
        <p:spPr>
          <a:xfrm>
            <a:off x="1676520" y="137160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4" descr="smile13.gif"/>
          <p:cNvPicPr/>
          <p:nvPr/>
        </p:nvPicPr>
        <p:blipFill>
          <a:blip r:embed="rId5"/>
          <a:stretch/>
        </p:blipFill>
        <p:spPr>
          <a:xfrm>
            <a:off x="228600" y="4724280"/>
            <a:ext cx="685800" cy="400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6"/>
          <a:stretch/>
        </p:blipFill>
        <p:spPr>
          <a:xfrm>
            <a:off x="1752480" y="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552" name="Content Placeholder 3" descr="usamouse.gif"/>
          <p:cNvPicPr/>
          <p:nvPr/>
        </p:nvPicPr>
        <p:blipFill>
          <a:blip r:embed="rId7"/>
          <a:stretch/>
        </p:blipFill>
        <p:spPr>
          <a:xfrm>
            <a:off x="304920" y="12952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C:\Documents and Settings\SMcDonald\Local Settings\Temporary Internet Files\Content.IE5\TC0RXD6Y\MCj01500140000[1].wmf"/>
          <p:cNvPicPr/>
          <p:nvPr/>
        </p:nvPicPr>
        <p:blipFill>
          <a:blip r:embed="rId8"/>
          <a:stretch/>
        </p:blipFill>
        <p:spPr>
          <a:xfrm>
            <a:off x="6400800" y="2819520"/>
            <a:ext cx="2071800" cy="1447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eagleflg.gif"/>
          <p:cNvPicPr/>
          <p:nvPr/>
        </p:nvPicPr>
        <p:blipFill>
          <a:blip r:embed="rId9"/>
          <a:stretch/>
        </p:blipFill>
        <p:spPr>
          <a:xfrm>
            <a:off x="7391520" y="304920"/>
            <a:ext cx="1228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1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Hancock"/>
          <p:cNvPicPr/>
          <p:nvPr/>
        </p:nvPicPr>
        <p:blipFill>
          <a:blip r:embed="rId1"/>
          <a:stretch/>
        </p:blipFill>
        <p:spPr>
          <a:xfrm>
            <a:off x="3124080" y="15238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0866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of Independence Br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eagleflg.gif"/>
          <p:cNvPicPr/>
          <p:nvPr/>
        </p:nvPicPr>
        <p:blipFill>
          <a:blip r:embed="rId3"/>
          <a:stretch/>
        </p:blipFill>
        <p:spPr>
          <a:xfrm>
            <a:off x="228600" y="1522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John Adams"/>
          <p:cNvPicPr/>
          <p:nvPr/>
        </p:nvPicPr>
        <p:blipFill>
          <a:blip r:embed="rId4"/>
          <a:stretch/>
        </p:blipFill>
        <p:spPr>
          <a:xfrm>
            <a:off x="6248520" y="1371600"/>
            <a:ext cx="2171520" cy="1752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5"/>
          <a:stretch/>
        </p:blipFill>
        <p:spPr>
          <a:xfrm>
            <a:off x="0" y="4343400"/>
            <a:ext cx="5105520" cy="914400"/>
          </a:xfrm>
          <a:prstGeom prst="rect">
            <a:avLst/>
          </a:prstGeom>
          <a:ln w="0">
            <a:noFill/>
          </a:ln>
        </p:spPr>
      </p:pic>
      <p:sp>
        <p:nvSpPr>
          <p:cNvPr id="575" name="Up Arrow 7"/>
          <p:cNvSpPr/>
          <p:nvPr/>
        </p:nvSpPr>
        <p:spPr>
          <a:xfrm>
            <a:off x="1981080" y="5257800"/>
            <a:ext cx="76212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609480" y="5715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is to learn more about the signers of the Declaration of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2" descr="american%20eagle%20with%20trade%20center"/>
          <p:cNvPicPr/>
          <p:nvPr/>
        </p:nvPicPr>
        <p:blipFill>
          <a:blip r:embed="rId6"/>
          <a:stretch/>
        </p:blipFill>
        <p:spPr>
          <a:xfrm>
            <a:off x="5105520" y="3144960"/>
            <a:ext cx="40384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 July 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ress adopted the Declaration of Independence on the morning of a bright, sunny, but cool Philadelphia day. John Dunlap printed the Declaration of Independence.  Twenty-four copies are known to exist, two of which are in the Library of Congres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e of these was Washington's personal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c9"/>
                </a:solidFill>
                <a:latin typeface="Adorable"/>
              </a:rPr>
              <a:t>We hold these truths to be self-evident, that all men are created equal, that they are endowed by their Creator with certain unalienable Rights, that among these are Life, Liberty and the pursuit of Happiness.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515120" cy="1209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"/>
          <p:cNvPicPr/>
          <p:nvPr/>
        </p:nvPicPr>
        <p:blipFill>
          <a:blip r:embed="rId3"/>
          <a:stretch/>
        </p:blipFill>
        <p:spPr>
          <a:xfrm>
            <a:off x="6781680" y="0"/>
            <a:ext cx="2238480" cy="1600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arrow1rightred.gif"/>
          <p:cNvPicPr/>
          <p:nvPr/>
        </p:nvPicPr>
        <p:blipFill>
          <a:blip r:embed="rId4"/>
          <a:stretch/>
        </p:blipFill>
        <p:spPr>
          <a:xfrm>
            <a:off x="6400800" y="914400"/>
            <a:ext cx="571680" cy="1904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7"/>
          <p:cNvSpPr/>
          <p:nvPr/>
        </p:nvSpPr>
        <p:spPr>
          <a:xfrm>
            <a:off x="5257800" y="152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 Jefferson stayed in while writing the Declaration of 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fireworks.gif"/>
          <p:cNvPicPr/>
          <p:nvPr/>
        </p:nvPicPr>
        <p:blipFill>
          <a:blip r:embed="rId5"/>
          <a:stretch/>
        </p:blipFill>
        <p:spPr>
          <a:xfrm>
            <a:off x="5181480" y="3276720"/>
            <a:ext cx="3657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egin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 of 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clar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f 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ritten by:  Thomas Jeff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hold these Truths to be self-evident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all M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t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q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they are endowed by thei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r with certai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enabl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F117-ABCD-4681-ACAC-4068466AB3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among thes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b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the Pursuit of 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F316-16D9-4D23-8981-0D9AD3A97B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9:53:35Z</dcterms:created>
  <dc:creator>Selena Ramsey</dc:creator>
  <dc:description/>
  <dc:language>en-US</dc:language>
  <cp:lastModifiedBy>poweruser</cp:lastModifiedBy>
  <dcterms:modified xsi:type="dcterms:W3CDTF">2011-09-12T13:06:56Z</dcterms:modified>
  <cp:revision>148</cp:revision>
  <dc:subject/>
  <dc:title>Slide 1</dc:title>
</cp:coreProperties>
</file>